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86A-6CDC-4028-BA24-7FFAB530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42C3-AB7E-4835-A04E-9941CDAC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E3C-05D9-4924-A50A-DB9D7B13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753-30F9-4402-A524-B0926AB3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1CEA-9FB5-499A-B2B4-F8347F9E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0778-9FA4-4E2E-8009-6509AFEC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C703-4B5F-44DF-9148-4B8A0F04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A7BB-77F6-4356-81E4-657CFC68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A268-B9A5-4A17-8F33-7861F7C2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7242-284D-4C79-8E0F-97A6B5AA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502A-44F7-4D00-81B9-26A9CEEC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F0AF-746B-4FAD-B9EA-8EEE80F3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CA70-5B5E-4BFC-A325-2ED9BFFD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D2A1-767F-4C5B-B71F-45DCCC21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7221-6BF6-40E0-8206-4818EF48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0215-7E70-418E-92BE-A41B1D08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037F-107C-4218-99BC-0C3165CD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B10-5616-4475-9267-91AC8541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D60-1E28-4419-80EF-2DBFEFA6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473-4F04-4BC2-AEA8-13D3DCF4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02F-DB0B-4AF9-B396-FCBD114C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73A-F67A-4844-9280-8E056665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C43-275F-453E-9253-91069C58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847-922B-4E67-B8D6-AE71CF99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E12E-9140-46F0-BB63-3EE7D67C6595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7A16-6B91-4F0F-BD34-6675553A1D80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24000" y="1484280"/>
            <a:ext cx="7704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уд.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4734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14760" cy="4086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2050920" y="2571840"/>
            <a:ext cx="308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5978520" y="0"/>
            <a:ext cx="3165480" cy="4221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17880" cy="39337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2843280" y="1125360"/>
            <a:ext cx="3456000" cy="20606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395280" y="4076640"/>
            <a:ext cx="3959280" cy="22845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5"/>
          <a:stretch/>
        </p:blipFill>
        <p:spPr>
          <a:xfrm>
            <a:off x="4716360" y="3957480"/>
            <a:ext cx="41338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492360" y="1916280"/>
            <a:ext cx="3449880" cy="49417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38955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03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4:32:53Z</dcterms:created>
  <dc:creator>UserXP</dc:creator>
  <dc:description/>
  <dc:language>en-US</dc:language>
  <cp:lastModifiedBy>Студент</cp:lastModifiedBy>
  <dcterms:modified xsi:type="dcterms:W3CDTF">2011-06-15T07:11:59Z</dcterms:modified>
  <cp:revision>1</cp:revision>
  <dc:subject/>
  <dc:title>Слайд 1</dc:title>
</cp:coreProperties>
</file>